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BF8A0-67C3-4F26-84C8-F2724F50F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096B7-4F7A-40F0-95F7-E91F8897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AE09C-06BE-4941-B0BA-9219E3C6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69970-6019-487E-AA87-BCF956EB8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B8E11-9129-4AEC-8B70-EE2B1AFB6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93BB-F7D0-447F-9E56-773C57D7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16651-006E-4BE2-84F8-0A9CEF40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0D37C-6917-4C1F-ABEA-06D1D8141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44A6-908F-4A72-8611-5C1A1829E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8E3E-FAC4-451D-9D62-0C8EAA27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CF56-2874-4973-9F70-9EFA8376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F01C-4C03-4EC4-A499-5A0CB9EE6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BC6E-23CB-4C9B-A041-C073CFC2A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 Purifier </a:t>
            </a:r>
            <a:endParaRPr b="0" lang="en-US" sz="4400" spc="-1" strike="noStrike">
              <a:solidFill>
                <a:srgbClr val="ffffff"/>
              </a:solidFill>
              <a:latin typeface="Arial"/>
            </a:endParaRPr>
          </a:p>
        </p:txBody>
      </p:sp>
      <p:sp>
        <p:nvSpPr>
          <p:cNvPr id="42" name="PlaceHolder 2"/>
          <p:cNvSpPr>
            <a:spLocks noGrp="1"/>
          </p:cNvSpPr>
          <p:nvPr>
            <p:ph type="subTitle"/>
          </p:nvPr>
        </p:nvSpPr>
        <p:spPr>
          <a:xfrm>
            <a:off x="5867280" y="6095520"/>
            <a:ext cx="327672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racy Penner</a:t>
            </a:r>
            <a:endParaRPr b="0" lang="en-US" sz="3200" spc="-1" strike="noStrike">
              <a:solidFill>
                <a:srgbClr val="ffffff"/>
              </a:solidFill>
              <a:latin typeface="Arial"/>
            </a:endParaRPr>
          </a:p>
        </p:txBody>
      </p:sp>
      <p:pic>
        <p:nvPicPr>
          <p:cNvPr id="43" name="" descr=""/>
          <p:cNvPicPr/>
          <p:nvPr/>
        </p:nvPicPr>
        <p:blipFill>
          <a:blip r:embed="rId1"/>
          <a:stretch/>
        </p:blipFill>
        <p:spPr>
          <a:xfrm>
            <a:off x="2743200" y="17524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est way to purifier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cs </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e water will purifier better if I heat the water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ffee fil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r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 </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ot water in a contain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ot dirt in the water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oor water on the coffee fil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Mix water in chlori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ot dirty water on the stove till boi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a:t>
            </a:r>
            <a:endParaRPr b="0" lang="en-US" sz="4400" spc="-1" strike="noStrike">
              <a:solidFill>
                <a:srgbClr val="ffffff"/>
              </a:solidFill>
              <a:latin typeface="Arial"/>
            </a:endParaRPr>
          </a:p>
        </p:txBody>
      </p:sp>
      <p:sp>
        <p:nvSpPr>
          <p:cNvPr id="53" name=""/>
          <p:cNvSpPr/>
          <p:nvPr/>
        </p:nvSpPr>
        <p:spPr>
          <a:xfrm>
            <a:off x="457200" y="1600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water and the dirt the same and change it bye adding a coffee filter, heating it up,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ffffff"/>
              </a:solidFill>
              <a:latin typeface="Arial"/>
            </a:endParaRPr>
          </a:p>
        </p:txBody>
      </p:sp>
      <p:sp>
        <p:nvSpPr>
          <p:cNvPr id="5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ffee filter made the water  drinkable. It went from dirty water to cle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rmation</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three-quarters of the earth’s surface is covered with water, a stunning 326 million cubic miles of water. Yet only three-tenths of one percent of the earth’s water can be used by humans. The Seven Seas might dominate the globe, but this usable water is only found in groundwater aquifers, rivers, and freshwater lak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 United States uses about 346,000 million gallons of fresh water every day. The recommended personal daily intake of eight cups a day – a luxury in the developing world – is just a small part of our total consumption. The average person in the U.S. will use anywhere from 80-100 gallons per day. Most of it is the result of flushing toilet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terling JrHigh</cp:lastModifiedBy>
  <cp:lastPrinted>2009-04-22T19:24:48Z</cp:lastPrinted>
  <dcterms:modified xsi:type="dcterms:W3CDTF">2010-05-07T13:45:4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